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0AF74C-AA00-44FB-A786-77EE1B923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0FF7C0-0331-461B-B6BF-1A3B43E25A2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C9D36A-4C9E-4F60-BB2D-8ECFACF7ECD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C72A9D-44E1-4BC9-955D-41E9ACF80F5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d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d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88480" y="1320120"/>
            <a:ext cx="7214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400" spc="-1" strike="noStrike">
                <a:solidFill>
                  <a:srgbClr val="003366"/>
                </a:solidFill>
                <a:latin typeface="Arial"/>
              </a:rPr>
              <a:t>Employment Services</a:t>
            </a:r>
            <a:r>
              <a:rPr b="1" lang="en-CA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867280" y="55627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6168960" y="0"/>
            <a:ext cx="2975040" cy="120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EO-BW-Eng"/>
          <p:cNvPicPr/>
          <p:nvPr/>
        </p:nvPicPr>
        <p:blipFill>
          <a:blip r:embed="rId2"/>
          <a:stretch/>
        </p:blipFill>
        <p:spPr>
          <a:xfrm>
            <a:off x="6477120" y="5638680"/>
            <a:ext cx="2346120" cy="9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articipant Suppor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to $500.00 to remove barriers to emplo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d Clo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ential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c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Second Career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43792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ssist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with Career Explo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Researching L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ompleting Application For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pplication Submission to MT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ssistance with Job Search following training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TIO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467840" cy="34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eeds Assessment &amp; Development of a Return to Work Service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5 hours a week for four weeks on-site career exploration, job search strategies, in-house tra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ff-site training when require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ccess to job development &amp; training incentiv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Benefits of Client Referral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66"/>
                </a:solidFill>
                <a:latin typeface="Arial"/>
              </a:rPr>
              <a:t>CIC Service Prov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pecialize in working with newco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ften have a diverse multi-lingual staf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ssist in the settlement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ffer workshops specifically geared to newco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Many offer childca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7960" y="2361960"/>
            <a:ext cx="400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OES Service Prov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ecialize in Employment Serv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 time Job Develop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Job Matching &amp; Participant Incentiv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ledge &amp; Access to other Employment Ontario Servi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traight Connector 4"/>
          <p:cNvSpPr/>
          <p:nvPr/>
        </p:nvSpPr>
        <p:spPr>
          <a:xfrm>
            <a:off x="4648320" y="601992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4648320" y="2514600"/>
            <a:ext cx="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Straight Connector 14"/>
          <p:cNvSpPr/>
          <p:nvPr/>
        </p:nvSpPr>
        <p:spPr>
          <a:xfrm>
            <a:off x="4572000" y="2438280"/>
            <a:ext cx="0" cy="3657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04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Benefits of Working in Partnership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r Range of Client Servi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Knowledge of Community &amp; Government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y for Improved Response to Client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ater Opportunity for Client Accommodation e.g. EOES Group Workshop at CIC Funded Site to allow Day Care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058040" y="25142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5" name="Picture 7" descr="Businessman and question mark"/>
          <p:cNvPicPr/>
          <p:nvPr/>
        </p:nvPicPr>
        <p:blipFill>
          <a:blip r:embed="rId1"/>
          <a:stretch/>
        </p:blipFill>
        <p:spPr>
          <a:xfrm>
            <a:off x="1727280" y="240048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UHC History  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88760" y="2361960"/>
            <a:ext cx="62355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Established in 198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pecialize in Employment Counselling Services formerly adult now all eligible job seekers in Oshawa &amp; Pick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ecipient of Four Ministers Awards for Service Excell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ISO Registered Agency since 200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ver 22,000 visitors per yea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ocations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sha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72 King Street E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O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/parent play/counselling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36600" y="2361960"/>
            <a:ext cx="400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ick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400 Bayly Str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O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elcom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ccasional Childcare for JS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0080" y="834120"/>
            <a:ext cx="6637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IC/ Newcomer Service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JSW since 200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ent Centric: Half- Full day workshop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ader of Pickering Welcome Centre 2011 – Transitional Mod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ntorship Program 2011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Employment Ontario Employment Services  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Resources &amp;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Individually Tailored Service Pl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Job Reten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Job Matching &amp; Plac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Second Care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TIOW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sources &amp; Information Oshawa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5 Dedicated client 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 Time Resource Support Per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ent Centric Workshop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nded Hou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.30 a.m.- 8:00 p.m. Mon – Th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ic Computer Training – evening hou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Resourc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rals &amp;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Service Pla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6933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eeds Assess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Development of Tailored Return to Work Service Plan to assist clients in meeting their employment 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eferral to other E.O. Services or other community/ Government Servic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n-going follow-up &amp;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Job Retention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716292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be part of Client’s Service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cli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poor work hi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ck of Canadian Work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al &amp; Group Couns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Job Matching Placemen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Benefits Job Seekers that cannot compete in a competitive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3-Full time dedicated job developers actively soliciting employment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raining Incentive for Employer ($2-2,500 averag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raining can be on the job or formal (off-si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n-going support intervention based on client ne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8:20:10Z</dcterms:created>
  <dc:creator>student1</dc:creator>
  <dc:description/>
  <dc:language>en-US</dc:language>
  <cp:lastModifiedBy>aholmes</cp:lastModifiedBy>
  <dcterms:modified xsi:type="dcterms:W3CDTF">2011-07-08T18:53:33Z</dcterms:modified>
  <cp:revision>199</cp:revision>
  <dc:subject/>
  <dc:title>Slide 1</dc:title>
</cp:coreProperties>
</file>